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A2C-B070-4EAE-A727-35953DC7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2E8-028C-40CC-8F68-3F9C0D10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835-BBBA-423B-B7CD-8FA0199E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E6D-0EEC-4073-A3BB-374D9BC2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256-7EC7-44BB-BED9-5A38FB02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25E-0A69-4015-A5CD-AAB4AA48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AFE-2406-447D-9C5D-6D26A0D5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529-3D43-433E-B22F-0A5A00A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859-32C9-4878-AB75-8138C5B9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6CD-46D1-42E1-AABB-6F25A56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A31-B0FB-4012-A073-F6301BB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6E0-ED18-47CE-90C7-1FC93CA6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111F-7CD9-40BF-9072-509FDD684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ne Hist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one histology 2"/>
          <p:cNvPicPr/>
          <p:nvPr/>
        </p:nvPicPr>
        <p:blipFill>
          <a:blip r:embed="rId1"/>
          <a:stretch/>
        </p:blipFill>
        <p:spPr>
          <a:xfrm>
            <a:off x="2743200" y="38862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on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cy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Mature bon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b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one-form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one-destroy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bone is a living tiss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ic Structure of a Compact Bo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eon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versian) c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concentric ring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mell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f bone matrix running lengthwise.  Very st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one model"/>
          <p:cNvPicPr/>
          <p:nvPr/>
        </p:nvPicPr>
        <p:blipFill>
          <a:blip r:embed="rId1"/>
          <a:stretch/>
        </p:blipFill>
        <p:spPr>
          <a:xfrm>
            <a:off x="2133720" y="3186000"/>
            <a:ext cx="3809880" cy="3276720"/>
          </a:xfrm>
          <a:prstGeom prst="rect">
            <a:avLst/>
          </a:prstGeom>
          <a:ln w="0">
            <a:noFill/>
          </a:ln>
        </p:spPr>
      </p:pic>
      <p:sp>
        <p:nvSpPr>
          <p:cNvPr id="49" name="Line 8"/>
          <p:cNvSpPr/>
          <p:nvPr/>
        </p:nvSpPr>
        <p:spPr>
          <a:xfrm flipH="1">
            <a:off x="4647960" y="2819520"/>
            <a:ext cx="33526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3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un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tiny cavities inside the lamellae rings.  This is where the osteocytes ar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bone histology"/>
          <p:cNvPicPr/>
          <p:nvPr/>
        </p:nvPicPr>
        <p:blipFill>
          <a:blip r:embed="rId1"/>
          <a:stretch/>
        </p:blipFill>
        <p:spPr>
          <a:xfrm>
            <a:off x="2133720" y="1371600"/>
            <a:ext cx="5695920" cy="5276880"/>
          </a:xfrm>
          <a:prstGeom prst="rect">
            <a:avLst/>
          </a:prstGeom>
          <a:ln w="0">
            <a:noFill/>
          </a:ln>
        </p:spPr>
      </p:pic>
      <p:sp>
        <p:nvSpPr>
          <p:cNvPr id="53" name="Line 8"/>
          <p:cNvSpPr/>
          <p:nvPr/>
        </p:nvSpPr>
        <p:spPr>
          <a:xfrm>
            <a:off x="1523880" y="2362320"/>
            <a:ext cx="1981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ral canal carries blood vessels and nerves to all areas of the b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Osteon"/>
          <p:cNvPicPr/>
          <p:nvPr/>
        </p:nvPicPr>
        <p:blipFill>
          <a:blip r:embed="rId1"/>
          <a:stretch/>
        </p:blipFill>
        <p:spPr>
          <a:xfrm>
            <a:off x="2362320" y="2666880"/>
            <a:ext cx="3367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how d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one cells get nourishment and contact the body outside the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licu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kan” ah-lik’-u-li):  tiny canals that radiate outward from the central canals to each lacuna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kmann’s Can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canals that run at right angles to the central canals and perforate the shaft of the b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long bone histology"/>
          <p:cNvPicPr/>
          <p:nvPr/>
        </p:nvPicPr>
        <p:blipFill>
          <a:blip r:embed="rId1"/>
          <a:stretch/>
        </p:blipFill>
        <p:spPr>
          <a:xfrm>
            <a:off x="380880" y="79200"/>
            <a:ext cx="8001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de, what about spongy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becul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Loosely organized lamellae rings with osteocytes (no central cana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licu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the osteocy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like struts along lines of stress in bone to offer strength, yet lightw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ig muscles"/>
          <p:cNvPicPr/>
          <p:nvPr/>
        </p:nvPicPr>
        <p:blipFill>
          <a:blip r:embed="rId1"/>
          <a:stretch/>
        </p:blipFill>
        <p:spPr>
          <a:xfrm>
            <a:off x="5334120" y="4876920"/>
            <a:ext cx="138744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lying buttress"/>
          <p:cNvPicPr/>
          <p:nvPr/>
        </p:nvPicPr>
        <p:blipFill>
          <a:blip r:embed="rId2"/>
          <a:stretch/>
        </p:blipFill>
        <p:spPr>
          <a:xfrm>
            <a:off x="2209680" y="4876920"/>
            <a:ext cx="178272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224120" y="50655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rr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V="1">
            <a:off x="6172200" y="5257800"/>
            <a:ext cx="10666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162920" y="5029200"/>
            <a:ext cx="761760" cy="457200"/>
          </a:xfrm>
          <a:prstGeom prst="ellipse">
            <a:avLst/>
          </a:prstGeom>
          <a:solidFill>
            <a:srgbClr val="bbe0e3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4:19:46Z</dcterms:created>
  <dc:creator>Jeff Burghardt</dc:creator>
  <dc:description/>
  <dc:language>en-US</dc:language>
  <cp:lastModifiedBy>Administrator</cp:lastModifiedBy>
  <dcterms:modified xsi:type="dcterms:W3CDTF">2010-07-19T12:54:04Z</dcterms:modified>
  <cp:revision>6</cp:revision>
  <dc:subject/>
  <dc:title>Bone Histology</dc:title>
</cp:coreProperties>
</file>